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F539A-FE8A-4F83-9FD9-E6603AD8E5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3632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FE0D5-2B02-40C9-B1DE-71DA8354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FA241-9CB2-432A-BA45-AE745EDC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F2E86-25AB-446C-A627-E5232A07EE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3868C-CE3F-47E3-BA33-BF4E30AB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A39D2-0863-4102-BAA6-E3B60399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BD98B-508C-4329-8D8F-4F8BB936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04C28-A6F9-4D3F-8B43-491A6817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7520"/>
            <a:ext cx="8226360" cy="73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16891-E1E6-41F6-ADA5-22FCA5D6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89E10-68F1-4D6A-BE3F-B0D3E2D1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D70B0-9F69-48F8-96AC-9AE2C6D7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7E49C-B9D9-4487-BA0B-377F4F6D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5720" indent="-3157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7960" indent="-2628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8788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E6B32-9999-4749-A11B-AA569C4DEA0D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  <a:ea typeface="Arial"/>
              </a:rPr>
              <a:t>Il VI Congresso Mondia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L’associazione si compone di 46 associazioni/ordini professional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385.000 professionisti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Ad oggi rappresenta 4 continent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Le lingue ufficiali sono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Inglese – Spagnolo – France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Itali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Il Board </a:t>
            </a:r>
            <a:r>
              <a:rPr b="0" i="1" lang="es-ES" sz="1800" spc="-1" strike="noStrike">
                <a:solidFill>
                  <a:srgbClr val="ff0000"/>
                </a:solidFill>
                <a:latin typeface="Calibri"/>
              </a:rPr>
              <a:t> 2012‐2015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alibri"/>
              </a:rPr>
              <a:t>María </a:t>
            </a: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Cruz Díaz Álvarez, España ‐ Presidente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Conrad Ulric Bernier, Canada ‐ Vicepresidente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Sean Gaule, Irlanda ‐ Vicepresidente del Continente Europa; Alejandro Luis Bonadeo, de Argentina ‐ </a:t>
            </a:r>
            <a:r>
              <a:rPr b="1" lang="es-ES" sz="1400" spc="-1" strike="noStrike">
                <a:solidFill>
                  <a:srgbClr val="ff0000"/>
                </a:solidFill>
                <a:latin typeface="Calibri"/>
              </a:rPr>
              <a:t>Vicepresidente del Continente América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alibri"/>
              </a:rPr>
              <a:t>Claudio Enrique Manuel Ortiz Rojas, Cile,  Luis Fernando Zuloaga Albarrán, México - Vicepresidenti del Continente  Africa, Asia e Oceanía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Carlos Pieta Filho, Brasile ‐ Past President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Rosario García Moreno, Spagna‐ Segretario Genera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Florindo Dalberto, Brasile -Segretario Tecnico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Bernal Méndez Arias, Costa Rica -Segretario Tecnico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Andrea Sisti, Italia ‐ Segretario Tecnico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Cibo ed identit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2d2db9"/>
                </a:solidFill>
                <a:latin typeface="Arial"/>
                <a:ea typeface="Arial"/>
              </a:rPr>
              <a:t>La professione dell’agronomo per la responsabilità sociale nello sviluppo sostenibile nel rispetto della diversità dei territori delle comunità local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LE TAPPE DI AVVICINAMENT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2d2db9"/>
                </a:solidFill>
                <a:latin typeface="Arial"/>
                <a:ea typeface="Arial"/>
              </a:rPr>
              <a:t>Settembre 2011 – L’idea di partecipare al V congresso Mondiale in Quebec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Febbraio 2012 - L’Adesione all’AMI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2d050"/>
                </a:solidFill>
                <a:latin typeface="Calibri"/>
              </a:rPr>
              <a:t>Maggio 2012 - La presentazione della candidatura al President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Settembre 2012 – La Partecipazione al V Congresso Mondiale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7f7f7f"/>
                </a:solidFill>
                <a:latin typeface="Calibri"/>
              </a:rPr>
              <a:t>Settembre 2012 – L’assegnazione dell’Organizzazione del VI Congresso Mondial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000"/>
                </a:solidFill>
                <a:latin typeface="Arial"/>
                <a:ea typeface="Arial"/>
              </a:rPr>
              <a:t>Le idee  - Il CIB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Il cibo rappresenta oggi un simbolo della società moderna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a5a5e9"/>
                </a:solidFill>
                <a:latin typeface="Arial"/>
                <a:ea typeface="Arial"/>
              </a:rPr>
              <a:t>È un indicatore dello stato di salute di un popolo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9973"/>
                </a:solidFill>
                <a:latin typeface="Arial"/>
                <a:ea typeface="Arial"/>
              </a:rPr>
              <a:t>È un indicatore del grado di libertà e di accesso alla democrazia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  <a:ea typeface="Arial"/>
              </a:rPr>
              <a:t>La sua disponibilità è in alcuni paesi limitata se non scarsa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Arial"/>
                <a:ea typeface="Arial"/>
              </a:rPr>
              <a:t>La sua disponibilità dipende in modo significativo e relazionale dalla produzione agricola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Arial"/>
                <a:ea typeface="Arial"/>
              </a:rPr>
              <a:t>La sua qualità dipende dalla produzione agricola e dalla capacità di trasformazione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e idee  - L’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262699"/>
                </a:solidFill>
                <a:latin typeface="Arial"/>
                <a:ea typeface="Arial"/>
              </a:rPr>
              <a:t>L’identità dei cibi su scala mondiale è semplificata e gloabalizzat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L’industria alimentare e la distribuzione di massa ha individuato per ogni continente un cibo tipo che viene somministrato come tipicità tradizionale ma senza legame con il territorio di origin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Arial"/>
              </a:rPr>
              <a:t>La produzione agricola  per la produzione di cibo è stata semplificata sia dal punto di vista genetico che territoriale paesaggistic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c000"/>
                </a:solidFill>
                <a:latin typeface="Arial"/>
                <a:ea typeface="Arial"/>
              </a:rPr>
              <a:t>Solo quindici specie vegetali vengono utilizzate per soddisfare il 75 % delle calorie che occorrono per la popolazione mondiale e solo 3 ne rappresenta il 75% (Riso – Mais –Grano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e idee 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Esiste una relazione qualità del cibo ed identità delle comun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06060"/>
                </a:solidFill>
                <a:latin typeface="Arial"/>
                <a:ea typeface="Arial"/>
              </a:rPr>
              <a:t>Esiste una relazione tra pratiche agrcole ed indetità dei paesagg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  <a:ea typeface="Arial"/>
              </a:rPr>
              <a:t>Esiste una relazione tra produzione di cibo e sostenibil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Esiste una relazione scarto alimentare e sostenibil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262699"/>
                </a:solidFill>
                <a:latin typeface="Arial"/>
                <a:ea typeface="Arial"/>
              </a:rPr>
              <a:t>Esiste una relazione tra progettazione dei sistemi ed ident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Esiste una relazione tra uso delle risorse, cibo ed ident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Le considerazio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262699"/>
                </a:solidFill>
                <a:latin typeface="Arial"/>
                <a:ea typeface="Arial"/>
              </a:rPr>
              <a:t>Ogni professionista agronomo nel mondo ha sviluppato una sua esperienz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Arial"/>
              </a:rPr>
              <a:t>Ogni professionista agronomo ha rapporti con comunità locali ed ha promosso iniziative per lo sviluppo loca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c000"/>
                </a:solidFill>
                <a:latin typeface="Arial"/>
                <a:ea typeface="Arial"/>
              </a:rPr>
              <a:t>Ogni professionista agronomo ha sviluppatto nelle diverse comunità locali delle pratiche agricole per la produzione di cib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Ogni professionista agronomo ha sviluppato progetti che hanno modificato in modo più o meno significativo l’identità dei paesaggi local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Le considerazio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olo un’esigua parte dei 385.000 professionisti potrà partecipare direttamente al Congresso e quindi ad Exp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Occorre favorire la partecipazione attiva anche attraverso i mezzi informatic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262699"/>
                </a:solidFill>
                <a:latin typeface="Arial"/>
                <a:ea typeface="Arial"/>
              </a:rPr>
              <a:t>Occorre premiare le migliori pratiche che consentono l’equilibrio tra identità e produzione di cibo delle comunità local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Il Congresso sarà strettamente legato ad EXP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Nella fase di avvicinamento promuoveremo e stimoleremo la comunità degli agronomi a presentare idee e progett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Ogni comunità di agronomi si dovrà relazionare con il proprio paese per poi sviluppare attraverso l’AMIA l’esposizione della best pratice o dell’innov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Arial"/>
                <a:ea typeface="Arial"/>
              </a:rPr>
              <a:t>Ogni comunità regionale dovrà sviluppare cooper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’Idea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Cibo ed identit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professione dell’agronomo per la responsabilità sociale nello sviluppo sostenibile nella  diversità dei territori delle comunità local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70c0"/>
                </a:solidFill>
                <a:latin typeface="Arial"/>
                <a:ea typeface="Arial"/>
              </a:rPr>
              <a:t>Il Congresso si articolare in 3 sessioni plenarie con l’esposizione di 12 position pap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Arial"/>
              </a:rPr>
              <a:t>Il Congresso verrà animato da 6 forum in rete che consentiranno la partecipazione interattiva degli agronomi di tutti I continent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Arial"/>
                <a:ea typeface="Arial"/>
              </a:rPr>
              <a:t>I forum verranno attivati in rete attraverso dei blog che partiranno nella fase preliminar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9973"/>
                </a:solidFill>
                <a:latin typeface="Arial"/>
                <a:ea typeface="Arial"/>
              </a:rPr>
              <a:t>I blog avranno dei format dedicati per valutare la qualità della propost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92d050"/>
                </a:solidFill>
                <a:latin typeface="Arial"/>
                <a:ea typeface="Arial"/>
              </a:rPr>
              <a:t>Il Congresso si concluderà con una declaratoria ed una carta dell’agronomo mondiale</a:t>
            </a:r>
            <a:r>
              <a:rPr b="1" lang="en-GB" sz="1600" spc="-1" strike="noStrike">
                <a:solidFill>
                  <a:srgbClr val="92d05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I TEMI DEI FORU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omic Sans MS"/>
                <a:ea typeface="Arial"/>
              </a:rPr>
              <a:t>Biodiversità e miglioramento genetic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Perpetua Titling MT"/>
                <a:ea typeface="Arial"/>
              </a:rPr>
              <a:t>Sostenibilità e Produttiv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Perpetua Titling MT"/>
                <a:ea typeface="Arial"/>
              </a:rPr>
              <a:t>Sviluppo ed identità loca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Gill Sans Ultra Bold"/>
                <a:ea typeface="Arial"/>
              </a:rPr>
              <a:t>Alimentazione e scarti alimentar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 BLANCA"/>
                <a:ea typeface="Arial"/>
              </a:rPr>
              <a:t>Cultura progettuale e responsabilità socia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d2db9"/>
                </a:solidFill>
                <a:latin typeface="AR BONNIE"/>
                <a:ea typeface="Arial"/>
              </a:rPr>
              <a:t>Cambiamenti climatici e territorio di produzion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Il Programma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Entro il 30 marzo – Presentazione programma al Board dell’AMI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Entro il 15 aprile conferenza stampa per la presentazione del nuovo portale dell’AMIA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Entro il 30 Aprile presentazione del programma alla FA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Entro il 30 giugno presentazione del programma alle Ambasciate estere in itali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Il Programma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  <a:ea typeface="Arial"/>
              </a:rPr>
              <a:t>Entro il  30 settembre presentazione del progetto ad EXP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Entro il 30 settembre avvio del portale del Congresso Mondia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2d050"/>
                </a:solidFill>
                <a:latin typeface="Arial"/>
                <a:ea typeface="Arial"/>
              </a:rPr>
              <a:t>Entro il 30 ottobre partecipazione al Congresso Panamerican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262626"/>
                </a:solidFill>
                <a:latin typeface="Arial"/>
                <a:ea typeface="Arial"/>
              </a:rPr>
              <a:t>11 e 12 Novembre – Congresso Europeo agronom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Il Programma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Da Gennaio ad aprile preparazione dei materiali e degli strumenti di comunicazione con realizzazione di eventi di approfondiment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Da maggio a settembre partecipazione ad EXP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2d2db9"/>
                </a:solidFill>
                <a:latin typeface="Arial"/>
                <a:ea typeface="Arial"/>
              </a:rPr>
              <a:t>14-18 Settembre VI Congresso Mondia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I Partecipanti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uropa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talia                           80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ltri Paesi europei   10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merica del Nord      5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merica Latina          5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ceania                      5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frica                         2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sia                           3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’Associazion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c00000"/>
                </a:solidFill>
                <a:latin typeface="Arial"/>
                <a:ea typeface="Arial"/>
              </a:rPr>
              <a:t>L'Associazione Mondiale degli Agronomi, conosciuta come AMIA, è stata fondata da rappresentanti di trenta Paesi l'8 settembre 1994 a Santiago del Cile, a seguito del primo Congresso Mondiale degli Professionisti in Agronomia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Obiettivi dell’associazion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b050"/>
                </a:solidFill>
                <a:latin typeface="Calibri"/>
              </a:rPr>
              <a:t>Unificare, coordinare e rappresentare tutte le associazioni degli agronomi  del mondo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2d2db9"/>
                </a:solidFill>
                <a:latin typeface="Calibri"/>
              </a:rPr>
              <a:t>Promuovere la pratica di tale professione, la sua eccellenza accademica ed etica professionale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Promuovere lo sviluppo sociale ed economico del settore rurale e rappresentando i «diritti agrari» nelle sedi internazionali e nei governi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SEDE DELL’ASSOCIAZION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La sede dell’associazione è presso la Città del Paese del Presidente in caric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Attualmente è in Madrid fino al 201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I MEMBRI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Nacional de Ing. Agrónomos Españ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Panamericana de Ingenieros Agrónom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Peruana de Ingenieros Agrari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Peruana de Ingenieros Agróónom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de de Ingenieros Agrónomos del Paragua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de Ingenieros Agrónomos del Urugua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LEAS --Argentin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LEAS –Brasi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MMFFI --Indi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NAPO ––Bolivi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PRINCO --Paraguay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EDIA --European Confederation of Agronomists Association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Argentin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. Agrónomos de Buenos Aires –Argenti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 Agrónomos de Santa  Fé—Argenti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. Agrónomos de Sta. Rosa –Argenti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 Agrónomos de Ch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Costa Ric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. Agrónomos de San  José--Costa Ric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égio de Ingenieros Agrónomos de Peru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–Puerto Rico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Panamá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Méxic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Hondura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Guatemal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Ecuad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ónomos de Nicaragu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Postgraduados –Mexic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Profes. de  Agronomía  de Entre de Rios -Argent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Profes  en  Ciencias Agricolas de Hondura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égio Oficial de Ing. Agr. de Centro y Canaria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Profesional de Ing. Agr. de Entre Rios –Argentin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nfederacion Nacional Agronómic  de Méxic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IMMYT ––Gana , Keni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IREN CORFO ––Ch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NACYT --El Salvad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Emater--RO/Brasil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Federaçao de Engenheiros, Agrônomos do Brasi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Federación de Argentina Ingenería Agronomic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Federacióón de Ingenieros Agrónomos de Colombi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Governo do Estado de Rondônia ––Brasil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Oliveira, José Ribama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IICA --Santiago ––Chil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Instituto Agronômico do Paraná––Brasil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Dalberto, Florindo 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Ordre des Agronomes du Québec – Canad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NAF – Consiglio Nazionale dei dottori agronomi e dei dottori forestal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a</dc:creator>
  <dc:description/>
  <dc:language>en-US</dc:language>
  <cp:lastModifiedBy>andrea sisti</cp:lastModifiedBy>
  <dcterms:modified xsi:type="dcterms:W3CDTF">2014-03-14T17:46:43Z</dcterms:modified>
  <cp:revision>25</cp:revision>
  <dc:subject/>
  <dc:title>Diapositiva 1</dc:title>
</cp:coreProperties>
</file>